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C956-9BCB-4728-B0FF-FAB07BE8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B185-7101-42DF-9E41-C01CD63E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9730-C3D0-4C1F-8582-74920366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21CE-A589-42AD-9D86-135BDE0D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EB8E-04A5-49AD-8E22-F9C01786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0BC5-CEB9-4D3D-96DF-909755B3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6349-CCAD-497C-8783-8CB00E08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4CF1-21F5-4216-9016-23F77A6D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4A93-4F42-4A6A-A6AB-8992BDDE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ECE2-0C18-487E-91DD-C6767887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9862-83A6-4C8E-AD7F-FF5546EC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A9D0-1B7A-4259-8176-7255AA6A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3315-555F-412D-9F4C-4A86BCE6D87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rale Capítulo 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spañol 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-¿Cuántos parientes tienes?  ¿Cómo se llaman tus _______________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- ¿Cuántos hermanos tienes? ¿Cómo son ello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- ¿Adónde vas despues de la escuela?  ¿Con quién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- ¿Cómo se llaman tus abuelos? Descríbelo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5- ¿Quién es tu _____________ favorito? ¿Por qué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6- En tu familia, ¿quién es ______ ? (3x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7- ¿Te gusta ir a la playa o la piscina? ¿dónd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8- ¿Qué día fue ayer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¿Qué día fue anteayer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¿Qué día es pasado mañana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9- Describe ________________  (3 adj.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0- Digame los 12 meses del añ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1-¿Cuándo es tu cumpleaño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2- ¿Tienes que hacer despues de escuela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3-¿Cómo escuchas la música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4-Cuenta por 100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7:48:01Z</dcterms:created>
  <dc:creator>Maple Lake</dc:creator>
  <dc:description/>
  <dc:language>en-US</dc:language>
  <cp:lastModifiedBy> </cp:lastModifiedBy>
  <dcterms:modified xsi:type="dcterms:W3CDTF">2012-12-28T18:25:54Z</dcterms:modified>
  <cp:revision>6</cp:revision>
  <dc:subject/>
  <dc:title>Orale Capítulo 5</dc:title>
</cp:coreProperties>
</file>